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F4F-1BF2-4F58-B26C-F71F45E7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3EE-6DCA-4530-8D7C-DA2BB882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FA7-96C9-46F2-B9AF-3A2C56E8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A1C-82F6-436F-AC99-DF1965EA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A399-81D6-4F34-9A78-6AED7125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22CA-152E-4BF6-BD06-89F8B096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2C0B-FE56-42D7-85FE-6383E25D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1DD-5B44-460F-82CD-C58F044D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62D0-532E-4305-B1D8-A3341F15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B2BF-3E38-4071-B821-2F2B3AD4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166E-B699-4E97-AE42-B4AED279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CCF-C92C-4BDE-A8D4-DD6F64EE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6158-F978-4C9D-90C5-470F1524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35F2-5759-4C2E-A7EB-051CBAD9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3CB7-B69F-4E49-82E9-B1FEE485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69D4-56C8-4EE5-A86C-FA7B809D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834F-45D6-4432-8DE7-B6776675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ACA-B8EA-482F-BC84-598E5D5E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02D-5986-4546-8D5F-B488573A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232-7AC8-4C36-A3F2-A8D57DBD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DB6-A99A-4FCE-88B4-48852F30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CA3-5947-48D8-8AC1-7024F00B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51F-03CC-4A9E-84EA-3A59109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C2A-A05C-40F5-801A-749689B3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C38-C61C-4C6E-BC37-777A43197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FC84-DA59-4EAD-9497-3BC43CA23F7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DFKai-SB"/>
              </a:rPr>
              <a:t>Rizwan baig</a:t>
            </a:r>
            <a:br>
              <a:rPr sz="4800"/>
            </a:b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946920" cy="1981440"/>
          </a:xfrm>
          <a:prstGeom prst="rect">
            <a:avLst/>
          </a:prstGeom>
          <a:noFill/>
          <a:ln cap="sq"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Country         :: Pakis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Me in class    :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9th 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My interest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:: volyball, indian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imes New Roman"/>
              </a:rPr>
              <a:t>My favourite subject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: his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724280"/>
            <a:ext cx="6858000" cy="1015920"/>
          </a:xfrm>
          <a:prstGeom prst="rect">
            <a:avLst/>
          </a:prstGeom>
          <a:solidFill>
            <a:srgbClr val="9966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akistan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1451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4:08Z</dcterms:modified>
  <cp:revision>20</cp:revision>
  <dc:subject/>
  <dc:title>MR. HAROON </dc:title>
</cp:coreProperties>
</file>